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573D-5349-4941-B148-64197BD3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questions to the appropriate big ideas from either Marian or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ed questions they have to defend to the whol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nutes + 10 minutes for discussion: 8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; 7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/Pair/Share; 7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9C6-2733-4989-B4F0-9D672949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E84-9BD1-4FBB-8212-658DF195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313-9439-4584-837A-176AB6D5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AC9-6104-4D3C-BBCC-B85F3B6C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7501-DF9B-4428-88C5-197FE523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9673-C9A9-4759-866B-FDB2176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8526-8B3F-45EF-81F0-66FE2A3B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5E6B-AAC8-4D3C-8558-2AE2E04C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CC5A-BB0A-4C90-A21B-EE40299B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648F-52DB-4C96-9FF5-4A7C0A13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6344-A092-47D6-A12A-6D5F71F5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333-7975-4455-B59A-711A732B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FF40-1767-48CB-A37D-75D0787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FE31-9110-489E-A225-63D826D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8148-0E9C-496F-9D8B-4B5034BA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DA35-0594-461A-A401-C0B26032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5D92-4726-4A2F-8A68-796B3BCF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347-6FA3-488F-86EB-B051826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E46-78BF-4B91-9D62-0B332492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E11-0B63-4FD6-85C4-52196A4E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867-793C-4C90-B781-DF189140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21C-6342-4B98-B2D4-F7986D1E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45D-530E-4F32-9DD8-D5BE7D3D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B85-1351-4F85-8BC8-E9166D9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2F51-C963-416D-A31F-5BD8A7B0531B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09CA-BB7A-4361-9820-964B6199B5C5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quirkyalone.net/wp-content/uploads/2009/04/postits.jpg&amp;imgrefurl=http://quirkyalone.net/index.php/2009/04/23/find-your-life-purpose-in-five-easy-steps/&amp;usg=__gwss-xkmp_rlS1_LMzS8736ruys=&amp;h=375&amp;w=500&amp;sz=63&amp;hl=en&amp;start=7&amp;tbnid=PONCQDZyn23WvM:&amp;tbnh=98&amp;tbnw=130&amp;prev=/images%3Fq%3Dpost%2Bit%2Bnotes%26hl%3Den%26gbv%3D2%26tbs%3Disch:1&amp;itb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9907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what you see in the square you are given proportionally onto the new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2190960" cy="2409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333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stablishing 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separate sticky notes, write down three things that are important to you to be able to work collaboratively in a gro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8120" y="4495680"/>
            <a:ext cx="25905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0200" y="426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00200"/>
            <a:ext cx="510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ach question, identify the Big Idea   that it is associated with, and                   post on chart pa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2680" y="5486400"/>
            <a:ext cx="3903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ready to defend your ch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73356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82572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8320" y="1752480"/>
            <a:ext cx="4038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59280" cy="3984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Proportional Reasoning: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Focused on Proportional Thinking</a:t>
            </a: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 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Day 1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6, 2010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Paul Alves, Sonia Ellison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4935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eet and Gree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39800" y="1652760"/>
            <a:ext cx="78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 strategy                                                             you have used or would like to use                                  in the first week of class                                                   to help students feel comfortable with sharing and talking about mathematics in your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stablishing 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separate sticky notes, write down three things that are important to you to be able to work collaboratively in a gro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495680"/>
            <a:ext cx="25905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9000" y="358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295280"/>
            <a:ext cx="83664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velop an Understanding of how the Big Ideas from Number connect to Proportion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ild a Math-Talk Learning Community   (Fearless speaking and list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1b7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ing to Evoke and Expos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Connect the Mathematical Processes to the Big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e Differentiated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Effective Use of Learn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e Literac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1b7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Provide Assessment for as and of  Learn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oday’s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Inventory of our Understanding of Proportion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ing familiar with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29600" cy="3224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d Mad Worl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914400"/>
            <a:ext cx="807732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9144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733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3276720"/>
            <a:ext cx="2590920" cy="914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990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s/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429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10-08-16T21:58:33Z</dcterms:modified>
  <cp:revision>134</cp:revision>
  <dc:subject/>
  <dc:title>Slide 1</dc:title>
</cp:coreProperties>
</file>